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0F5-D536-456B-99D9-B2DBE923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677-8637-48B6-865F-B7509617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531-5B7B-4853-A599-E60D1AE3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77A-8D18-454B-83E8-2DE5A614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0632-0576-4D2E-9D95-02B88635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D615-ADF7-4B1F-A544-11880E6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5CC-0BC7-4CB7-9521-A5F3D1EB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F0AF-4965-46F4-B2DF-9D256B0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BDC-268B-4032-B0C1-CBBC4AD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284-0649-418B-A682-E5EDB02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E91D-4C6A-40E1-A966-F4E53E7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34C-5ACE-4C6B-9D3A-3C4AFA6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AD4D-55E3-4557-A640-E573CFF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D26D-FEF6-4194-84AB-0CCA46C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36B-B604-4EFD-9D42-D025A153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5DD8-668F-4D9C-AF20-8C4B36DE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278-5FE4-4834-BE4A-60F9DADA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F11D-8116-4FA4-9615-19633297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830A-6705-46C2-9E43-D527345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B183-7CFD-4B4B-88A9-0CE6BAB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3FD5-8BE4-426B-AEB2-3568FF86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FC2E-3F92-4798-B232-6F82C1BF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D65-19BB-46C3-B194-7E9A26FD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650A-F2CC-4410-8BC9-2983A4C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BE38-AB70-47C1-8DD7-6F66F26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E9E0-D5CB-42D7-B27A-F97AE38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1B2F-356F-452B-A241-3FE1833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7725-569B-4E1B-9F62-3570351A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7013-F72C-4DAC-9386-A72AB0BF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FB6D-7E8D-4B17-83C4-1F7789B9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10D3-9F4A-400B-8C28-771E6411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19F2-9D8A-4A49-BB74-1E66D87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FC11-7033-475B-B21B-B74FA16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D8F-D2BB-485A-9A9D-6156E05A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DB3C-66B7-4D48-A0B3-13F102B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98EF-C5CF-4A19-B4CF-790E0236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AF9A-60FD-448B-94CB-2797ED14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7AE8-A47D-4141-AC31-93CD990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4174-3BBD-404A-B4EC-D1ACD60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7AF8C-3C5B-498F-BF45-E81E373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6A57-3665-4E44-AA4E-4FDBB4F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4E99-9A12-4D5F-ACF9-5D77A5CA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AA30-AAC4-45A8-B0B0-4CFE274B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B8C4-35AD-441E-8917-A7A06E4E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835-2CBC-4EB7-9259-CEB88AF6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B7E9-99F9-496E-9998-BBC28C4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82EC-F802-4F48-9005-A93D3653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C829-6D58-463C-83F4-9BE187B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0193-25BE-47A1-A168-89F79D93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25368-00B7-499D-8922-F41F9B41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6330-7DE3-4F5E-BFBA-1AFD571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8C00-1AE9-486D-ABC4-B0E3E020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5D850-1665-4A68-968D-D872908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AD7F-F80A-412D-B191-0469CB5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9A76-5F1B-44CB-8604-F471B26E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BEA-ED9D-42E1-A5A7-D5AC177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6F31-9A18-4BAE-99CF-C5B3D157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779E6-5AD9-415B-839B-6BDDCA0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08E8-860E-4242-8AED-D7C93C4D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EBB8-DF8F-40F2-9CBB-43574810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139E7-D792-48AA-AE64-E9B02994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135D9-3E4E-4EEB-A6D4-64B6A1F5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9993-8232-47A4-85A4-940C0D2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3B1B-A209-4E4B-830F-F980F15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6C5F-807F-4A41-9DC1-54DDEFD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7D65-1B94-486E-8C35-58EFBDE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AFD-2C4B-4202-ACAA-BA5791F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B49B-A7B2-47B4-9424-11EC135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877E-C114-4BF3-9BF0-57F99C1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82661-D3F9-429E-B28A-597CE0E9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FDF76-C666-47FA-9757-E6BC6709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6F03-4A91-41F3-A09D-CFBD3556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D4B9-CC8F-4BE8-A916-126B06EF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82C71-C053-4A8B-9EAF-0BE8512E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BFA8-E6CB-438B-9AE7-6AF3D068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6BD38-9731-4058-AE78-9530341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E536-8A7F-447A-9001-7E9F756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339-6B3F-4D1D-B7AA-B324D17B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1F1E6-47AA-4005-96D8-085B5BC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19B7-BEAF-492A-ADD3-9FF6088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77817-F218-4FC8-A970-634696E4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20128-BEDA-4AC2-BA97-2AB2A601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ECA6-089F-4F33-8928-1FE1A06C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215D-136F-4D9D-9214-C5964058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4771-D84D-484B-9E4A-76B313E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D240-712C-4484-853B-2B5E231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C21B9-B6AD-4DA0-9D12-23C303E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E2A45-E204-4AAC-B842-462946D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194-5093-4AAA-B0D7-D723E61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63ACC-F08D-4B4B-9CC2-0CB9AEF6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A6B3-50A0-44A7-B7BF-5C3E588C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23B86-29E6-4772-B7DF-110F210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CD72-5B36-4AB4-8143-CF66D8D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DF165-A055-4D51-AC75-2B7A74C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D501-0D66-4715-BB66-96C49824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46BBA-6921-463B-B6E6-38FA09E8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C28-DC53-40F3-9BCA-F34E129AF6E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49C-4C93-4950-942A-CB179D3BBDA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0C27-3B74-4578-91CC-650722DCF02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7BD-42AC-4E5C-BE03-CBE570AFF78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9B19-8218-4249-9424-14BB0476813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5C8C-0990-4CFE-9160-B22DC71F03D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48E4-229C-4019-8927-BD24A999F8A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87F7-10BA-4818-B926-598FA0D0CF3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2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304920" y="41911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8.9% of O’Gorman students scored a 4 or 5 while only 26.3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student at O’Gorman scored lower than a 3 on the ex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3978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Administrator</cp:lastModifiedBy>
  <dcterms:modified xsi:type="dcterms:W3CDTF">2012-07-26T20:13:35Z</dcterms:modified>
  <cp:revision>8</cp:revision>
  <dc:subject/>
  <dc:title>2011 AP English  Literature and Composition Results</dc:title>
</cp:coreProperties>
</file>